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5FC-7F01-4F9D-9407-7C32774F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D01-11B4-46DE-AA70-DD3DFB2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69C-3F63-40FA-91BB-2F1EC03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C11-7829-4CCE-B724-2A392848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E4EA-0C5A-4F9D-9467-4A15EB13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1D8A-6E9E-48F3-BA2C-A740D6D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EE7A-3200-40C0-A3C2-E31F312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BE83-94EC-4710-A293-AA1ABD6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EB9-CAA1-47B2-932E-33ABCFD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84F-7327-40CC-9F6C-12BF3D1A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D4A0-BC49-4A93-9AFA-3F4D432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7E2-50D6-43DC-B852-8CB8785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DE5-E957-486C-86BF-76AFE76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278-DDC2-4542-9D3E-CC70578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8CE5-3AF3-4AD3-92C4-676B0E64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6DA-7F97-44D2-A69D-BBC43963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E920-A248-4ACA-B132-4AD9868B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29-5841-487F-BB5A-5A73E6F1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05A-045B-44C5-B3DD-C30461F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E9C-5A2A-42C6-832C-9E91D62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7F2-2D17-45BE-91B2-8561C67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FBD-F3F7-4EB3-991D-BABC05F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56B-8A00-4FEE-97AB-7B13513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13C-A920-4306-902B-5D3C196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F58-8B1A-4E7B-8D09-872EF8C18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FB53-3D0D-4C25-BB17-632B8A002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news.nationalgeographic.com/news/2007/01/images/070124-sharks-weird.jpg&amp;imgrefurl=http://news.nationalgeographic.com/news/2007/01/070124-sharks-photo.html&amp;h=304&amp;w=461&amp;sz=63&amp;hl=en&amp;start=1&amp;tbnid=Of78aObsqh-IZM:&amp;tbnh=84&amp;tbnw=128&amp;prev=/images%3Fq%3Dshark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ullacresta.it/squalo/Great%2520White%2520Shark%2520(2).jpg&amp;imgrefurl=http://bwyb.blogspot.com/2004_06_01_archive.html&amp;h=600&amp;w=800&amp;sz=60&amp;hl=en&amp;start=13&amp;tbnid=05oru6HkfRYl0M:&amp;tbnh=107&amp;tbnw=143&amp;prev=/images%3Fq%3Dshark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harkswitlaserspewpew.com/shark1.jpg&amp;imgrefurl=http://www.sharkswitlaserspewpew.com/&amp;h=621&amp;w=784&amp;sz=119&amp;hl=en&amp;start=19&amp;tbnid=1r3KlnJ0r7LA7M:&amp;tbnh=113&amp;tbnw=143&amp;prev=/images%3Fq%3Dsharks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oceana.org/uploads/pics/sharks_02.jpg&amp;imgrefurl=http://community.oceana.org/story/2007/8/8/201042/8712&amp;h=293&amp;w=385&amp;sz=54&amp;hl=en&amp;start=5&amp;tbnid=ZzwaPwd6qY3S9M:&amp;tbnh=94&amp;tbnw=123&amp;prev=/images%3Fq%3Dsharks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lubmarine.com.au/internet/clubmarine.nsf/docs/MG20-6%2520Feature/%24file/shark.jpg&amp;imgrefurl=http://www.clubmarine.com.au/internet/clubmarine.nsf/docs/MG20-6%2BFeature&amp;h=579&amp;w=500&amp;sz=72&amp;hl=en&amp;start=54&amp;tbnid=aEE-bruorwhDjM:&amp;tbnh=134&amp;tbnw=116&amp;prev=/images%3Fq%3Dsharks%26start%3D4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qnyc.org/NYC063163/Shark%2520Jump.jpg&amp;imgrefurl=http://www.tqnyc.org/NYC063163/save%2520me.html&amp;h=281&amp;w=350&amp;sz=15&amp;hl=en&amp;start=67&amp;tbnid=O3vBg_adoRKsdM:&amp;tbnh=96&amp;tbnw=120&amp;prev=/images%3Fq%3Dsharks%26start%3D60%26gbv%3D2%26ndsp%3D20%26hl%3D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a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Chris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Do like shark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905120"/>
            <a:ext cx="5333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like to eat meat except the whale shark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meat they won’t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protect themselves by using their teeth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 thing wants to try and eat it, it will bit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3124080"/>
            <a:ext cx="38862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n the baby is born its mother leaves i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hark is born it’s on its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are good hunters. They can smell underwater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ks are prediters and they eat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294000"/>
            <a:ext cx="34290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 hope you learned a lot about sharks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3124080"/>
            <a:ext cx="56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4:49Z</dcterms:modified>
  <cp:revision>3</cp:revision>
  <dc:subject/>
  <dc:title>Animal Name</dc:title>
</cp:coreProperties>
</file>